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ct" ContentType="image/x-pict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7.pct" ContentType="image/x-pict"/>
  <Override PartName="/ppt/media/image6.png" ContentType="image/png"/>
  <Override PartName="/ppt/media/image17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.pct" ContentType="image/x-pict"/>
  <Override PartName="/ppt/media/image20.pct" ContentType="image/x-pict"/>
  <Override PartName="/ppt/media/image18.pct" ContentType="image/x-pict"/>
  <Override PartName="/ppt/media/image4.png" ContentType="image/png"/>
  <Override PartName="/ppt/media/image15.pct" ContentType="image/x-pict"/>
  <Override PartName="/ppt/media/image3.png" ContentType="image/png"/>
  <Override PartName="/ppt/media/image14.pct" ContentType="image/x-pict"/>
  <Override PartName="/ppt/media/image16.pct" ContentType="image/x-pict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744-B8F1-4657-B391-B7CADC91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773-4ECC-4FFE-B39C-EEF99EBD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985-1458-4A24-9553-C1A4E03C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C13-A9DB-4925-A6C1-FE82A2A4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1B2-F46F-4A11-9A95-04C6F754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37124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A49-A2D0-48E7-8144-00187717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AC0-E46A-4EF1-BAF7-0275BBF7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C26-234D-4362-9357-772D0546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27A-2D34-4797-B2F3-21271ED1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B8E-FC2E-4D8C-A867-15D09A45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620-7745-4860-BBDF-EFE7F407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B15-1B3A-4802-82DB-94CDC35E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37124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39CD-8DEA-41EE-876A-83A407636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image" Target="../media/image13.pct"/><Relationship Id="rId8" Type="http://schemas.openxmlformats.org/officeDocument/2006/relationships/image" Target="../media/image14.pct"/><Relationship Id="rId9" Type="http://schemas.openxmlformats.org/officeDocument/2006/relationships/image" Target="../media/image15.pct"/><Relationship Id="rId10" Type="http://schemas.openxmlformats.org/officeDocument/2006/relationships/image" Target="../media/image16.pct"/><Relationship Id="rId11" Type="http://schemas.openxmlformats.org/officeDocument/2006/relationships/image" Target="../media/image17.pct"/><Relationship Id="rId12" Type="http://schemas.openxmlformats.org/officeDocument/2006/relationships/image" Target="../media/image18.pct"/><Relationship Id="rId13" Type="http://schemas.openxmlformats.org/officeDocument/2006/relationships/image" Target="../media/image19.pct"/><Relationship Id="rId14" Type="http://schemas.openxmlformats.org/officeDocument/2006/relationships/image" Target="../media/image20.pct"/><Relationship Id="rId15" Type="http://schemas.openxmlformats.org/officeDocument/2006/relationships/image" Target="../media/image21.pct"/><Relationship Id="rId16" Type="http://schemas.openxmlformats.org/officeDocument/2006/relationships/image" Target="../media/image22.pct"/><Relationship Id="rId17" Type="http://schemas.openxmlformats.org/officeDocument/2006/relationships/image" Target="../media/image23.pct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371240"/>
            <a:ext cx="8793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llenges Representing Phenotype in Pharmacogenom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a Hernandez-Bouss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G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pharmGk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 for Representing Knowledge in PharmGK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latform for entering &amp; curating Pharmacogenomic knowledge = Protégé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important pharmacogenes + vari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+variant-drug-phenotype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entry for compu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vocabu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linkages to exis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s, drugs, exter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ble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able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cabularies Currently Us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NC fo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famil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DRA for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for disease,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ntology for cellular location, molecular function,  cellular biolog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Arial"/>
              </a:rPr>
              <a:t>ASSU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type vocabulary (MESH 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&amp; drug vocabulary (MESH 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chEBI for chemic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drug dictionary @ PharmG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nowledge Templ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vocabulary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representation of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key “slots” to be filled using objects, according to lo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Pathwa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 Overview template, points to “Ste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 Step template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bolism step (P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step (P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ion step (PD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stream phenotype step (PK &amp; P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metabolism st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8305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Drug Inter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Phenotype Associ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71629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9907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GKB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grates, aggregates and anno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nd knowledge to serve the PGx research commun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, high qua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typ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enotype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mostly small studies, some large ones in the pipe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services inclu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terature curations, pathways, VIP gene summa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efforts focus on crea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pe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mprove efficiency and precision of cur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7312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25960" y="990720"/>
            <a:ext cx="1269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7352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12144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749840" y="23623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12144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749304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2997360" y="388620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4444920" y="38862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5969160" y="388620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3759120" y="53341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7416720" y="38862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5207040" y="53341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749304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147312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3225960" y="243828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1473120" y="3886200"/>
            <a:ext cx="11732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estions?  Thank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ssard@stanford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Pharmacogenomics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how genetic variation leads to variation in responses to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mise from the Genome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ized 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rug use effective and safe based on a person’s specific g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acogenomics Flo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858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2419" r="4763" b="0"/>
          <a:stretch/>
        </p:blipFill>
        <p:spPr>
          <a:xfrm>
            <a:off x="2590920" y="1219320"/>
            <a:ext cx="6095880" cy="551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43000" y="0"/>
            <a:ext cx="8001000" cy="125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knowledg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talyze pharmacogenomics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Core Cont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8001000" cy="3052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4768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:  aggregate, integrate &amp; annotate pharmacogenom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textual summarie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ort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acogenes and their key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pathway representations built by consensus, associated with literature evidence and links to PharmGKB genes, drugs, pheno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Ann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GKB curators create data entries that associate genes with drugs and phenotypes, based on an interpretation of the literature.  They encode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led vocabul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Variation Complex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variation and its relation to proteins is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exists in the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vari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specify the existence of polymorph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There is A/C SNP at Golden Path X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lotype variations = collection of simpl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alle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are specific vari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One allele of the A/C SNP is A at GP X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lotype alleles = collection of simple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s are diploid alleles = “diplotyp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S can be described to all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otype-Phenotype Rel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about gene-drug-pheno interactions comes at different levels of granula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ene X interacts with Drug Y (in pheno Z)--in a physical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ene X makes a difference in pheno Z for Drug Y--in an association sense (can also be a physical interaction, but that is with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fic All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ariant of Gene X has a particular effect on pheno  Z for Drug Y--also in an association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saic Challenge: Throughput &amp; Redundan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curatorial staff has many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ethods to quickly identify important knowledge and capture it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ONCE for multipl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omputable knowledge, can generate displays appropriate for user interests:  pathways, VIP summaries, literature summ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6:36:02Z</dcterms:created>
  <dc:creator>Russ B Altman</dc:creator>
  <dc:description/>
  <dc:language>en-US</dc:language>
  <cp:lastModifiedBy>Tina Boussard</cp:lastModifiedBy>
  <cp:lastPrinted>1904-01-01T00:00:00Z</cp:lastPrinted>
  <dcterms:modified xsi:type="dcterms:W3CDTF">2006-12-01T20:08:31Z</dcterms:modified>
  <cp:revision>57</cp:revision>
  <dc:subject/>
  <dc:title>PharmGKB-Mosaic</dc:title>
</cp:coreProperties>
</file>